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991-FAC7-4B5D-831C-E63E3E35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D90-DF9C-4DC6-8F0C-74792D2B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F1C-DCB9-4F24-BA96-486538AC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A8D-474D-44A0-8F82-E9967E73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B19F-8C06-40AE-8917-B156F832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1E76-8302-475E-B436-27E17DD4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FCFD-F08A-415B-BA64-2C205C9C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AB77-A2FC-4293-AF07-72622F6A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331F-1F65-44A6-B193-5AEB266C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FAB5-EB19-4EF4-A7CD-108D8CDE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D8B0-98ED-4C5B-B2A1-417D3C66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EA0-E9BD-4A57-AEE9-AC15CF87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39B6-87DA-439F-B229-592C74B2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38C6-8C09-49F1-B4BF-31BE1F43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F565-E4E2-4180-9F81-9998A3AF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EC8E-1663-47E4-8BAF-B05F2494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05A5-C130-4ACF-9280-E5EDF796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8AA-C85B-4DD5-AD56-5959F104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5BC-F17A-4330-ABED-20EEAA0B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94E-E0B9-42D2-8AF5-DEEA43E5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04A-E254-4B4C-8D90-E6135146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D05-636E-4D1F-8D9E-6E6F393F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85D-AF27-4C5C-BC57-C0637FBA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96B-D245-429F-8505-807D5A32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5015-D213-490B-8BDD-726C6E678B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B0A7-AA2F-4030-A534-B155D40B66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bs.org/wgbh/nova/genome/dna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s.stedwards.edu/~kswank/dnaBond.jpg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207.207.4.198/pub/flash/24/menu.swf" TargetMode="External"/><Relationship Id="rId2" Type="http://schemas.openxmlformats.org/officeDocument/2006/relationships/hyperlink" Target="http://www.dnai.org/teacher/lesson?c=2,1,18210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NA: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oxyribonucle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Journey into 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4106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62948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DNA Strands indicating Base pairing bond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457200"/>
            <a:ext cx="36432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ackbone of DNA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ckbone of a DNA chain is form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g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hosph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ps of each nucleot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37236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gaff’s Rul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uzzling fact about the relationship between the nucleoti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win Chargaff, an American biochemist, had discovered that the percentages of guanine (G) and cytosine (C) bases are almost equal in any sample of D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me thing is true for thymine (T) and adenine (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servation that [A] = [T] and [G] = [C] became known as Chargaff’s rul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7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Double Helix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53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rancis Cri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James Wats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s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salind Franklin’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-ray evidence to determine that DNA wa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ouble heli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n which 2 strands were wound around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ouble helix looks like a twisted ladder or spiral stairc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62948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984400" y="1957320"/>
            <a:ext cx="3175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 what is RN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A is a long molecule made up of unit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UCLEOTID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nucleotide is made up of 3 basic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ugar called rib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hosphate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itrogenous (nitrogen-containing)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Nitrogen Ba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4 kinds of nitrogenous bases in R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of the nitrogenous base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en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uan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elong to a group of compounds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RI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maining two base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ytos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rac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re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YRIMID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bases are different between DNA and RN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Objectiv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nderstand the Overall Structure of the DNA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monstrate the variety of codes that can be made with only 4 b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events of DNA Repl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events of RNA Transcrip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475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ckbone of R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ckbone of an RNA chain is form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g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hosph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ps of each nucleot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name of the sugar in RN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25336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do we need RN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 is spe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 needs to stay in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make an RNA copy of the D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NA leaves the nucleus to find a ribos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s at the riboso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bosome makes proteins that gives us our tra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362320" y="685800"/>
            <a:ext cx="428616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cells divide each new cell needs a copy of the D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_______ chromosomes in our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plication of DNA happens in which stage of the cell cyc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 phase of Inter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DNA Re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DNA Replication Fl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ssible Models for Repl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428920" y="1857240"/>
            <a:ext cx="42861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4832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replicates through Semi-conservative re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iginal DNA op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DNA strands are added to each half of the original str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23432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NA, RNA, or Both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the sugar deoxyribo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sugar – phosphate backbo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a base of urac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a base of thym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tructure of DNA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 is a long molecule made up of unit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UCLEOTID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nucleotide is made up of 3 basic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5-carbon sugar called deoxyrib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hosphate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itrogenous (nitrogen-containing)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NA, RNA, or Both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double stran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licates through semi-conservative repli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s with a riboso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984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62948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52600" y="-114480"/>
            <a:ext cx="623880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obacco plant expressing a firefly ge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possible to program one species to produce proteins characteristic of another by transplanting D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48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4 Bas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4 kinds of nitrogenous bases in D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of the nitrogenous base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en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uan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elong to a group of compounds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RI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maining two base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ytos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ym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re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YRIMID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ines have 1 ring in their structure and pyrimidines have two r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2948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15:52:34Z</dcterms:created>
  <dc:creator>System Operations</dc:creator>
  <dc:description/>
  <dc:language>en-US</dc:language>
  <cp:lastModifiedBy>Tera Linn</cp:lastModifiedBy>
  <dcterms:modified xsi:type="dcterms:W3CDTF">2011-11-01T19:29:37Z</dcterms:modified>
  <cp:revision>20</cp:revision>
  <dc:subject/>
  <dc:title>DNA:  </dc:title>
</cp:coreProperties>
</file>